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AB16C-F480-4EE3-9D81-9FBF717B5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59D4D-355D-4891-933F-CE323F3C4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64505-9CA4-433A-AB11-A657EAEA9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EB308-1DF6-4D0D-93E1-729F6159D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5D502-3F30-40E3-BAFB-046BF4FA2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C1C8A-C5FD-4C5C-8F9A-BB31E68C8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43460-F9C5-4252-8071-3EE1AEAD1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7D9D8-AAB4-4CF7-8ACC-C8E6C5318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49F1C-18E0-42E7-A153-43425B79D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E8EBB-D719-49D4-944C-80B67D146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55ADF-99C8-452D-8809-39CB36177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CE585-2D27-4550-8BD6-D2CA36C99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3FBBA-1801-49B1-8A9B-9DF023296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A5B5E-FF00-4E8E-AC80-B58ACA2B9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144C0-B476-455A-9576-A960BAF9D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C8CAC-F31F-40D1-9F8E-AF4BA3BEE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4F58F-A12F-4A3F-9859-DD8DD64BB3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7EF9F4D-4925-4413-B300-C7C4933B4E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1C2A658-F0E4-424D-8700-1267BA5C63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BC0D14D-B510-418E-96DF-18D158F27A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CDEB6E1-7D29-48CF-94AF-E12483DE9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8A4D86A-026E-415E-8486-A2B8FEC1F8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44AF7-4A00-41C4-AC59-167634FAF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E2FC01-5926-44C8-B2DD-2B9D086DBE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72CE42-1098-4BCD-93E6-8FAA70AFD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957412-80EE-425F-851F-7FF3D9611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D974F1-0503-48C6-AB9B-3D1E3246B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F34FFB4-21B7-4B48-A483-D68ABA0DE0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92E133B-D905-435B-8FF2-C81F5DD696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24936E9-C318-4C59-9857-F8991A4F8A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67528D-CBEE-498C-A790-44F47B37AA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FA9B9E-80FC-4D92-89F2-7A31B5360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EF8EC5-9E4B-4EA5-8BDD-E4FCDA799A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B2219-8F75-40FA-AECC-3BB3B287E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29A0C0-1654-4733-9AC3-CB28F2FBC2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D31D76-2C57-459F-8CE1-4E6A86758A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574DF5-FDC9-46E7-8BB1-F947487FD8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88B43-1B07-4CB3-B2E2-4CF7E9C1C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21372-00E9-49EB-9082-D63AB6DF0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41044-4EC6-4209-8425-5B0B825B7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2F3714-6701-4173-B1B2-14EB5D2D85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43CE38-B30B-4C66-AA81-25EF2E140B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898A87-2AE2-4E93-8CB2-26EE01E39E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AB200D5-9263-4EE0-A95A-B9C40A8642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83262-7B67-4F60-B369-E7D22CF71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0F2605E-A8AE-479D-B2CE-FA17E4245A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5B6B740-AE77-41D7-B8E4-09DD358C77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F2A2611-BE90-40B4-B51F-EF864C7CE4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E677D32-46A3-4D7A-9A41-D10F6C44DA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EBBD05B-8E6C-46F2-B4D7-57CABC2FA8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B58CC3-7E71-4AA7-9453-B8FFDFD31E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F5AC74-F45E-487F-81CC-4EE7A61E6D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B55521-7B2B-4938-AD19-DB6204E860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F65DB1-265C-42FE-81B0-F4B5CFFFDE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E423A0C-29C4-4915-8F23-A42CD8C8DA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942AC-9267-4E8D-A2F9-F292E67AC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D352392-329E-42B2-9CB6-EA6046A95A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F24D9E8-D1F3-4E8A-844C-F40E085E18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88B7DA1-4AF3-4DE7-93CA-439BD56678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005CA99-97B6-4BF1-999B-74BF88FCE2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71787F5-BAAE-4A76-965C-62640CEDF0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9917709-3CC5-403B-9257-DE26571F62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EF2FECC-06BA-4ABB-9096-8B8ECC0C07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686D201-BC5F-4D17-AAFC-9EC550BC0C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A88F3D6-F424-470F-A8EC-7ECF087151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065CD3A-1695-456C-8166-52D56D5144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132B5-75F6-4281-86CB-B9E0F1F44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7F72F79-7F9B-431B-94FA-16DEC14B6B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D24BA3E-F184-4A81-91D9-286D2E9369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EF565C5-0134-4062-ABCA-1CF423B73C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A5B25C2-A6E3-49C8-9942-2A8B157C33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2F4333D-74AE-4331-842D-C70C22A985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704EC62-21FD-4D4A-9805-F3DD531FA0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163A3B2-24A4-423B-A140-22F78E0360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D79DDD5-B2DB-4E94-B1E7-5632CD288A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27B6A06-A50E-4332-BC91-1893EB86D8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39011DA-469A-4A7D-8840-0D84BD1201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8800B-3807-479F-8394-84B98AC27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02A25D8-F175-4F8B-B2EC-160375DD76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779FB6-4B8F-4230-B145-E9F2E83982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0C00508-797B-4289-B13A-3B996A77FB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45CC679-EEE0-487F-831F-F9651B14E2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985C640-25AC-4406-8D02-C5E9A519FF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8D7B5-A15B-424E-A8B0-729FC8E38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488C6-A39C-492E-8EB2-0FFAF64D16C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02CB-FCA8-4BEB-89EA-528406422FA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AE7F-CDCD-46AF-A42F-86A75609D15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ED67-F06A-421D-8996-ABF6783427D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325C-7E20-4E75-9886-265BD8A7986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5690-0F4B-4FFF-A72E-B9F9D00DBF4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08DC-7B85-4A32-99E3-666EAD1CFC2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575f6d"/>
                </a:solidFill>
                <a:latin typeface="Times New Roman"/>
              </a:rPr>
              <a:t>PROGRAMARE ORIENTATĂ PE OBIECT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No</a:t>
            </a:r>
            <a:r>
              <a:rPr b="1" lang="ro-RO" sz="1800" spc="-1" strike="noStrike">
                <a:solidFill>
                  <a:srgbClr val="575f6d"/>
                </a:solidFill>
                <a:latin typeface="Century Schoolbook"/>
              </a:rPr>
              <a:t>ţiuni introductive</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vi-VN" sz="2400" spc="-1" strike="noStrike">
                <a:solidFill>
                  <a:srgbClr val="000000"/>
                </a:solidFill>
                <a:latin typeface="Times New Roman"/>
              </a:rPr>
              <a:t>O clasă poate fi declarată, asemănător cu tipul struct sau union, folosind cuvântul cheie class, astfe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lass &lt;nume_clasa&gt; : &lt;lista_clase&g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lt;lista_membri&g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lt;lista_variabile&g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vi-VN" sz="2400" spc="-1" strike="noStrike">
                <a:solidFill>
                  <a:srgbClr val="000000"/>
                </a:solidFill>
                <a:latin typeface="Times New Roman"/>
              </a:rPr>
              <a:t>Und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nume_clasă</a:t>
            </a:r>
            <a:r>
              <a:rPr b="0" lang="vi-VN" sz="2400" spc="-1" strike="noStrike">
                <a:solidFill>
                  <a:srgbClr val="000000"/>
                </a:solidFill>
                <a:latin typeface="Times New Roman"/>
              </a:rPr>
              <a:t> este numele tipului clasa ales de către utilizator şi care trebuie să fie unic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lista_clase</a:t>
            </a:r>
            <a:r>
              <a:rPr b="0" lang="vi-VN" sz="2400" spc="-1" strike="noStrike">
                <a:solidFill>
                  <a:srgbClr val="000000"/>
                </a:solidFill>
                <a:latin typeface="Times New Roman"/>
              </a:rPr>
              <a:t> este lista claselor din care este derivată clasa respectivă (dacă este cazul)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 </a:t>
            </a:r>
            <a:r>
              <a:rPr b="1" lang="vi-VN" sz="2400" spc="-1" strike="noStrike">
                <a:solidFill>
                  <a:srgbClr val="000000"/>
                </a:solidFill>
                <a:latin typeface="Times New Roman"/>
              </a:rPr>
              <a:t>lista_membri </a:t>
            </a:r>
            <a:r>
              <a:rPr b="0" lang="vi-VN" sz="2400" spc="-1" strike="noStrike">
                <a:solidFill>
                  <a:srgbClr val="000000"/>
                </a:solidFill>
                <a:latin typeface="Times New Roman"/>
              </a:rPr>
              <a:t>reprezintă secvenţa de declaraţii ale membrilor clasei. Lista conţine declaraţii de date membre şi declaraţii de funcţii membre. Datele membre pot fi de orice tip, mai puţin tipul clasa derivat (se admit însă pointeri la tipul clasa deriv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 </a:t>
            </a:r>
            <a:r>
              <a:rPr b="1" lang="vi-VN" sz="2400" spc="-1" strike="noStrike">
                <a:solidFill>
                  <a:srgbClr val="000000"/>
                </a:solidFill>
                <a:latin typeface="Times New Roman"/>
              </a:rPr>
              <a:t>lista_variabile</a:t>
            </a:r>
            <a:r>
              <a:rPr b="0" lang="vi-VN" sz="2400" spc="-1" strike="noStrike">
                <a:solidFill>
                  <a:srgbClr val="000000"/>
                </a:solidFill>
                <a:latin typeface="Times New Roman"/>
              </a:rPr>
              <a:t> este lista numelor de variabile alese pentru clasa respectivă</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74" name=""/>
          <p:cNvSpPr txBox="1"/>
          <p:nvPr/>
        </p:nvSpPr>
        <p:spPr>
          <a:xfrm>
            <a:off x="457200" y="1600200"/>
            <a:ext cx="76960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vi-VN" sz="2400" spc="-1" strike="noStrike">
                <a:solidFill>
                  <a:srgbClr val="e75c01"/>
                </a:solidFill>
                <a:latin typeface="Times New Roman"/>
              </a:rPr>
              <a:t>Observaţi</a:t>
            </a:r>
            <a:r>
              <a:rPr b="1" lang="en-US" sz="2400" spc="-1" strike="noStrike">
                <a:solidFill>
                  <a:srgbClr val="e75c01"/>
                </a:solidFill>
                <a:latin typeface="Century Schoolbook"/>
              </a:rPr>
              <a:t>i</a:t>
            </a:r>
            <a:r>
              <a:rPr b="1" lang="vi-VN" sz="2400" spc="-1" strike="noStrike">
                <a:solidFill>
                  <a:srgbClr val="e75c01"/>
                </a:solidFill>
                <a:latin typeface="Times New Roman"/>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Membrii unei clase au implicit atributul de acces </a:t>
            </a:r>
            <a:r>
              <a:rPr b="1" lang="vi-VN" sz="2400" spc="-1" strike="noStrike">
                <a:solidFill>
                  <a:srgbClr val="000000"/>
                </a:solidFill>
                <a:latin typeface="Times New Roman"/>
              </a:rPr>
              <a:t>private</a:t>
            </a:r>
            <a:r>
              <a:rPr b="0" lang="vi-VN" sz="2400" spc="-1" strike="noStrike">
                <a:solidFill>
                  <a:srgbClr val="000000"/>
                </a:solidFill>
                <a:latin typeface="Times New Roman"/>
              </a:rPr>
              <a:t>.</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Metodele asociate datelor trebuie să fie însă accesibile utilizatorului clasei, astfel trebuie să fie declarate public.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Se admite c</a:t>
            </a:r>
            <a:r>
              <a:rPr b="0" lang="en-US" sz="2400" spc="-1" strike="noStrike">
                <a:solidFill>
                  <a:srgbClr val="000000"/>
                </a:solidFill>
                <a:latin typeface="Century Schoolbook"/>
              </a:rPr>
              <a:t>a</a:t>
            </a:r>
            <a:r>
              <a:rPr b="0" lang="vi-VN" sz="2400" spc="-1" strike="noStrike">
                <a:solidFill>
                  <a:srgbClr val="000000"/>
                </a:solidFill>
                <a:latin typeface="Times New Roman"/>
              </a:rPr>
              <a:t> în definiţia clasei să apară doar prototipurile funcţiilor membr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Definiţiile efective ale funcţiilor se pot face ulterior, în orice alt loc în cadrul programulu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vi-VN" sz="2400" spc="-1" strike="noStrike">
                <a:solidFill>
                  <a:srgbClr val="000000"/>
                </a:solidFill>
                <a:latin typeface="Times New Roman"/>
              </a:rPr>
              <a:t> </a:t>
            </a:r>
            <a:r>
              <a:rPr b="0" lang="vi-VN" sz="2400" spc="-1" strike="noStrike">
                <a:solidFill>
                  <a:srgbClr val="000000"/>
                </a:solidFill>
                <a:latin typeface="Times New Roman"/>
              </a:rPr>
              <a:t>Definiţia unei clase constă din două părţi: </a:t>
            </a:r>
            <a:r>
              <a:rPr b="1" lang="vi-VN" sz="2400" spc="-1" strike="noStrike">
                <a:solidFill>
                  <a:srgbClr val="000000"/>
                </a:solidFill>
                <a:latin typeface="Times New Roman"/>
              </a:rPr>
              <a:t>declaraţia</a:t>
            </a:r>
            <a:r>
              <a:rPr b="0" lang="vi-VN" sz="2400" spc="-1" strike="noStrike">
                <a:solidFill>
                  <a:srgbClr val="000000"/>
                </a:solidFill>
                <a:latin typeface="Times New Roman"/>
              </a:rPr>
              <a:t> şi </a:t>
            </a:r>
            <a:r>
              <a:rPr b="1" lang="vi-VN" sz="2400" spc="-1" strike="noStrike">
                <a:solidFill>
                  <a:srgbClr val="000000"/>
                </a:solidFill>
                <a:latin typeface="Times New Roman"/>
              </a:rPr>
              <a:t>implementarea</a:t>
            </a:r>
            <a:r>
              <a:rPr b="0" lang="vi-VN" sz="2400" spc="-1" strike="noStrike">
                <a:solidFill>
                  <a:srgbClr val="000000"/>
                </a:solidFill>
                <a:latin typeface="Times New Roman"/>
              </a:rPr>
              <a:t> sa.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1. </a:t>
            </a:r>
            <a:r>
              <a:rPr b="1" lang="vi-VN" sz="2400" spc="-1" strike="noStrike">
                <a:solidFill>
                  <a:srgbClr val="000000"/>
                </a:solidFill>
                <a:latin typeface="Times New Roman"/>
              </a:rPr>
              <a:t>Declaraţia</a:t>
            </a:r>
            <a:r>
              <a:rPr b="0" lang="vi-VN" sz="2400" spc="-1" strike="noStrike">
                <a:solidFill>
                  <a:srgbClr val="000000"/>
                </a:solidFill>
                <a:latin typeface="Times New Roman"/>
              </a:rPr>
              <a:t> este o înşiruire a elementelor componente ale unei clase (date şi funcţii)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2. </a:t>
            </a:r>
            <a:r>
              <a:rPr b="1" lang="vi-VN" sz="2400" spc="-1" strike="noStrike">
                <a:solidFill>
                  <a:srgbClr val="000000"/>
                </a:solidFill>
                <a:latin typeface="Times New Roman"/>
              </a:rPr>
              <a:t>Implementarea</a:t>
            </a:r>
            <a:r>
              <a:rPr b="0" lang="vi-VN" sz="2400" spc="-1" strike="noStrike">
                <a:solidFill>
                  <a:srgbClr val="000000"/>
                </a:solidFill>
                <a:latin typeface="Times New Roman"/>
              </a:rPr>
              <a:t> constă în acea secţiune în care se implementează funcţiile declarate ca aparţinând clasei. Fiind membre ale unui tip de date, accesul la aceste elemente se realizează prin intermediul operatorului de apartenenţă ‘ .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533160" y="685440"/>
            <a:ext cx="7467480" cy="205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entury Schoolbook"/>
              </a:rPr>
              <a:t>   </a:t>
            </a:r>
            <a:r>
              <a:rPr b="0" lang="vi-VN" sz="2400" spc="-1" strike="noStrike">
                <a:solidFill>
                  <a:srgbClr val="000000"/>
                </a:solidFill>
                <a:latin typeface="Times New Roman"/>
              </a:rPr>
              <a:t>Limbajul C++ utilizează modelul programării structurate procedurale, care constă în descompunerea programului în proceduri (funcţii), apelate în ordinea în care se desfăşoară algoritmul. Datele sunt separate de funcţiile care le manipulează.</a:t>
            </a:r>
            <a:endParaRPr b="0" lang="en-US" sz="2400" spc="-1" strike="noStrike">
              <a:solidFill>
                <a:srgbClr val="000000"/>
              </a:solidFill>
              <a:latin typeface="Century Schoolbook"/>
            </a:endParaRPr>
          </a:p>
        </p:txBody>
      </p:sp>
      <p:pic>
        <p:nvPicPr>
          <p:cNvPr id="354" name="Picture 7" descr="http://liis.is.edu.ro/~doinah/informatica/POO/img2.jpg"/>
          <p:cNvPicPr/>
          <p:nvPr/>
        </p:nvPicPr>
        <p:blipFill>
          <a:blip r:embed="rId1"/>
          <a:stretch/>
        </p:blipFill>
        <p:spPr>
          <a:xfrm>
            <a:off x="2438280" y="3276720"/>
            <a:ext cx="3810240" cy="236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575f6d"/>
                </a:solidFill>
                <a:latin typeface="Century Schoolbook"/>
              </a:rPr>
              <a:t>PROGRAMARE PROCEDURALĂ </a:t>
            </a:r>
            <a:r>
              <a:rPr b="0" lang="en-US" sz="3000" spc="-1" strike="noStrike">
                <a:solidFill>
                  <a:srgbClr val="575f6d"/>
                </a:solidFill>
                <a:latin typeface="Century Schoolbook"/>
              </a:rPr>
              <a:t>VS.</a:t>
            </a:r>
            <a:r>
              <a:rPr b="0" lang="ro-RO" sz="3000" spc="-1" strike="noStrike">
                <a:solidFill>
                  <a:srgbClr val="575f6d"/>
                </a:solidFill>
                <a:latin typeface="Century Schoolbook"/>
              </a:rPr>
              <a:t> POO</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entury Schoolbook"/>
              </a:rPr>
              <a:t>   </a:t>
            </a:r>
            <a:r>
              <a:rPr b="0" lang="vi-VN" sz="2400" spc="-1" strike="noStrike">
                <a:solidFill>
                  <a:srgbClr val="000000"/>
                </a:solidFill>
                <a:latin typeface="Times New Roman"/>
              </a:rPr>
              <a:t>Odată cu creşterea dimensiunii programelor s-a acordat o atenţie sporită organizării codurilor sursă – funcţiile, împreună cu datele pe care le manevrează, sunt organizate ca un modu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entury Schoolbook"/>
              </a:rPr>
              <a:t>   </a:t>
            </a:r>
            <a:r>
              <a:rPr b="0" lang="vi-VN" sz="2400" spc="-1" strike="noStrike">
                <a:solidFill>
                  <a:srgbClr val="000000"/>
                </a:solidFill>
                <a:latin typeface="Times New Roman"/>
              </a:rPr>
              <a:t>Programarea modulară este tot programare procedurală, cu proceduri şi date grupate în module şi ascunse altor modul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575f6d"/>
                </a:solidFill>
                <a:latin typeface="Century Schoolbook"/>
              </a:rPr>
              <a:t>PROGRAMARE PROCEDURALĂ </a:t>
            </a:r>
            <a:r>
              <a:rPr b="0" lang="en-US" sz="3000" spc="-1" strike="noStrike">
                <a:solidFill>
                  <a:srgbClr val="575f6d"/>
                </a:solidFill>
                <a:latin typeface="Century Schoolbook"/>
              </a:rPr>
              <a:t>VS.</a:t>
            </a:r>
            <a:r>
              <a:rPr b="0" lang="ro-RO" sz="3000" spc="-1" strike="noStrike">
                <a:solidFill>
                  <a:srgbClr val="575f6d"/>
                </a:solidFill>
                <a:latin typeface="Century Schoolbook"/>
              </a:rPr>
              <a:t> POO</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Programarea orientată pe obiecte constă în identificarea unor obiecte, cu operaţii (metode) specifice asociate şi realizarea comunicării între aceste obiecte prin intermediul unor mesaj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Elementul constructiv – obiectul este o instanţă a unei clase (tip de dată definită de utilizator).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Clasele sunt membre ale unei ierarhii şi sunt corelate între ele prin relaţii de moştenir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60" name=""/>
          <p:cNvSpPr txBox="1"/>
          <p:nvPr/>
        </p:nvSpPr>
        <p:spPr>
          <a:xfrm>
            <a:off x="457200" y="1600200"/>
            <a:ext cx="784872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O clasă reprezintă un tip definit de utilizator.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Declararea unei clase se face într-o manieră asemănătoare declarării structurilor şi conţine atât </a:t>
            </a:r>
            <a:r>
              <a:rPr b="1" lang="vi-VN" sz="2400" spc="-1" strike="noStrike">
                <a:solidFill>
                  <a:srgbClr val="000000"/>
                </a:solidFill>
                <a:latin typeface="Times New Roman"/>
              </a:rPr>
              <a:t>date</a:t>
            </a:r>
            <a:r>
              <a:rPr b="0" lang="vi-VN" sz="2400" spc="-1" strike="noStrike">
                <a:solidFill>
                  <a:srgbClr val="000000"/>
                </a:solidFill>
                <a:latin typeface="Times New Roman"/>
              </a:rPr>
              <a:t> cât şi </a:t>
            </a:r>
            <a:r>
              <a:rPr b="1" lang="vi-VN" sz="2400" spc="-1" strike="noStrike">
                <a:solidFill>
                  <a:srgbClr val="000000"/>
                </a:solidFill>
                <a:latin typeface="Times New Roman"/>
              </a:rPr>
              <a:t>funcţii</a:t>
            </a:r>
            <a:r>
              <a:rPr b="0" lang="vi-VN" sz="2400" spc="-1" strike="noStrike">
                <a:solidFill>
                  <a:srgbClr val="000000"/>
                </a:solidFill>
                <a:latin typeface="Times New Roman"/>
              </a:rPr>
              <a:t> (metode) care prelucrează aceste dat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După declararea unei clase putem declara variabile(obiecte) având acest tip nou.</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Un obiect este un exemplar sau o instanţă a unei clas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 </a:t>
            </a:r>
            <a:r>
              <a:rPr b="0" lang="vi-VN" sz="2400" spc="-1" strike="noStrike">
                <a:solidFill>
                  <a:srgbClr val="000000"/>
                </a:solidFill>
                <a:latin typeface="Times New Roman"/>
              </a:rPr>
              <a:t>Conform programării obișnuite se poate face următoarea analogi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obiect</a:t>
            </a:r>
            <a:r>
              <a:rPr b="0" lang="vi-VN" sz="2400" spc="-1" strike="noStrike">
                <a:solidFill>
                  <a:srgbClr val="000000"/>
                </a:solidFill>
                <a:latin typeface="Times New Roman"/>
              </a:rPr>
              <a:t> este echivalent cu o </a:t>
            </a:r>
            <a:r>
              <a:rPr b="1" lang="vi-VN" sz="2400" spc="-1" strike="noStrike">
                <a:solidFill>
                  <a:srgbClr val="000000"/>
                </a:solidFill>
                <a:latin typeface="Times New Roman"/>
              </a:rPr>
              <a:t>variabilă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clasa</a:t>
            </a:r>
            <a:r>
              <a:rPr b="0" lang="vi-VN" sz="2400" spc="-1" strike="noStrike">
                <a:solidFill>
                  <a:srgbClr val="000000"/>
                </a:solidFill>
                <a:latin typeface="Times New Roman"/>
              </a:rPr>
              <a:t> este echivalentă cu un </a:t>
            </a:r>
            <a:r>
              <a:rPr b="1" lang="vi-VN" sz="2400" spc="-1" strike="noStrike">
                <a:solidFill>
                  <a:srgbClr val="000000"/>
                </a:solidFill>
                <a:latin typeface="Times New Roman"/>
              </a:rPr>
              <a:t>tip definit de utilizato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O clasă reuneşte datele şi operaţiile în cadrul aceluiaşi tip de dată.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 </a:t>
            </a:r>
            <a:r>
              <a:rPr b="0" lang="vi-VN" sz="2400" spc="-1" strike="noStrike">
                <a:solidFill>
                  <a:srgbClr val="000000"/>
                </a:solidFill>
                <a:latin typeface="Times New Roman"/>
              </a:rPr>
              <a:t>În plus, există posibilitatea protejării elementelor componente, atât date cât şi funcţii membre, protejarea nu împotriva necunoaşterii lor de către utilizator ci mai ales împotriva distrugerii lor accidental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 </a:t>
            </a:r>
            <a:r>
              <a:rPr b="0" lang="vi-VN" sz="2400" spc="-1" strike="noStrike">
                <a:solidFill>
                  <a:srgbClr val="000000"/>
                </a:solidFill>
                <a:latin typeface="Times New Roman"/>
              </a:rPr>
              <a:t>Acestă proprietate se numeşte </a:t>
            </a:r>
            <a:r>
              <a:rPr b="1" lang="vi-VN" sz="2400" spc="-1" strike="noStrike">
                <a:solidFill>
                  <a:srgbClr val="000000"/>
                </a:solidFill>
                <a:latin typeface="Times New Roman"/>
              </a:rPr>
              <a:t>încapsulare</a:t>
            </a:r>
            <a:r>
              <a:rPr b="0" lang="vi-VN" sz="2400" spc="-1" strike="noStrike">
                <a:solidFill>
                  <a:srgbClr val="000000"/>
                </a:solidFill>
                <a:latin typeface="Times New Roman"/>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C++ permite controlul accesului atât la datele membre (încapsulare selectivă a datelor), cât şi la funcţiile membre ale unei clas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 </a:t>
            </a:r>
            <a:r>
              <a:rPr b="0" lang="vi-VN" sz="2400" spc="-1" strike="noStrike">
                <a:solidFill>
                  <a:srgbClr val="000000"/>
                </a:solidFill>
                <a:latin typeface="Times New Roman"/>
              </a:rPr>
              <a:t>În acest scop, se pot utiliza specificatorii de control: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e75c01"/>
                </a:solidFill>
                <a:latin typeface="Times New Roman"/>
              </a:rPr>
              <a:t>1. public</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e75c01"/>
                </a:solidFill>
                <a:latin typeface="Times New Roman"/>
              </a:rPr>
              <a:t>2. private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e75c01"/>
                </a:solidFill>
                <a:latin typeface="Times New Roman"/>
              </a:rPr>
              <a:t>3. protect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CLARAREA CLASELOR</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vi-VN" sz="2400" spc="-1" strike="noStrike">
                <a:solidFill>
                  <a:srgbClr val="000000"/>
                </a:solidFill>
                <a:latin typeface="Times New Roman"/>
              </a:rPr>
              <a:t>Pentru domeniul în care este valabilă declaraţia obiectului, efectul specificatorilor asupra accesului la un membru este: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1. </a:t>
            </a:r>
            <a:r>
              <a:rPr b="1" lang="vi-VN" sz="2400" spc="-1" strike="noStrike">
                <a:solidFill>
                  <a:srgbClr val="000000"/>
                </a:solidFill>
                <a:latin typeface="Times New Roman"/>
              </a:rPr>
              <a:t>public</a:t>
            </a:r>
            <a:r>
              <a:rPr b="0" lang="vi-VN" sz="2400" spc="-1" strike="noStrike">
                <a:solidFill>
                  <a:srgbClr val="000000"/>
                </a:solidFill>
                <a:latin typeface="Times New Roman"/>
              </a:rPr>
              <a:t> – membrul poate fi accesat de orice funcţie din domeniul declaraţiei clasei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2. </a:t>
            </a:r>
            <a:r>
              <a:rPr b="1" lang="vi-VN" sz="2400" spc="-1" strike="noStrike">
                <a:solidFill>
                  <a:srgbClr val="000000"/>
                </a:solidFill>
                <a:latin typeface="Times New Roman"/>
              </a:rPr>
              <a:t>private</a:t>
            </a:r>
            <a:r>
              <a:rPr b="0" lang="vi-VN" sz="2400" spc="-1" strike="noStrike">
                <a:solidFill>
                  <a:srgbClr val="000000"/>
                </a:solidFill>
                <a:latin typeface="Times New Roman"/>
              </a:rPr>
              <a:t> – membrul este accesibil numai funcţiilor membre şi ‘prietene’ ale clasei (funcţiile prietene ale unei clase vor fi prezentate ulterior)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3. </a:t>
            </a:r>
            <a:r>
              <a:rPr b="1" lang="vi-VN" sz="2400" spc="-1" strike="noStrike">
                <a:solidFill>
                  <a:srgbClr val="000000"/>
                </a:solidFill>
                <a:latin typeface="Times New Roman"/>
              </a:rPr>
              <a:t>protected</a:t>
            </a:r>
            <a:r>
              <a:rPr b="0" lang="vi-VN" sz="2400" spc="-1" strike="noStrike">
                <a:solidFill>
                  <a:srgbClr val="000000"/>
                </a:solidFill>
                <a:latin typeface="Times New Roman"/>
              </a:rPr>
              <a:t> – similar cu private, dar accesul se extinde pentru functiile membre şi prietene ale claselor derivate din clasa respectivă (clasele derivate vor fi tratate ulterio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6T09:16:40Z</dcterms:created>
  <dc:creator>MONICA</dc:creator>
  <dc:description/>
  <dc:language>en-US</dc:language>
  <cp:lastModifiedBy>MONICA</cp:lastModifiedBy>
  <dcterms:modified xsi:type="dcterms:W3CDTF">2015-04-16T10:27:10Z</dcterms:modified>
  <cp:revision>14</cp:revision>
  <dc:subject/>
  <dc:title>Programare orientată pe obiecte</dc:title>
</cp:coreProperties>
</file>